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B3FD-1003-45F6-BA25-3BD8C96A9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2C93-213B-4FF8-A388-1603AEACE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B9EA-15F5-421B-8473-F0FB8DC59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65B8-FA24-48BF-AD8D-870BC06F40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B605-2445-49E8-A2D8-5F22015F8F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1A904-4E2E-4E91-A33E-93A1FA5E5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328F-F2BE-4BE7-9F29-30FCFCE73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CEB0-C4EA-4213-B92A-AB4E284F5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4C83-9CC7-49D2-9F3D-2586F1943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7A08-2677-45EC-9095-CF9BFC1CD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51D6-6E62-45E4-9BAC-9BED1E3C4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A686-519E-4135-84A0-11A9AFDC8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images.google.com/imgres?imgurl=http://www.mas.ucy.ac.cy/NEWMAS/images/ucy_logo_clean.png&amp;imgrefurl=http://www.mas.ucy.ac.cy/NEWMAS/images/&amp;h=182&amp;w=185&amp;sz=41&amp;tbnid=zwk0cIvSOnVJ3M:&amp;tbnh=94&amp;tbnw=96&amp;hl=en&amp;start=20&amp;prev=/images%3Fq%3Ducy%2Blogo%26svnum%3D10%26hl%3Den%26lr%3D%26rls%3DGGLG,GGLG:2006-01,GGLG:en%26sa%3DN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2-</a:t>
            </a:r>
            <a:fld id="{8DDACA32-7DBF-41A4-BADD-11B0429FF25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1680" y="44604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85440" y="6324120"/>
            <a:ext cx="7543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simple/9/9c/Microsoft_Windows_logo.gif&amp;imgrefurl=http://simple.wikipedia.org/wiki/Microsoft_Windows&amp;h=196&amp;w=287&amp;sz=12&amp;tbnid=eynSai-BDnQJ:&amp;tbnh=75&amp;tbnw=110&amp;prev=/images%3Fq%3Dwindows%2Blogo%26hl%3Den%26lr%3D&amp;oi=imagesr&amp;start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kevcom.com/images/linux/linux.logo.2yp.jpg&amp;imgrefurl=http://www.kevcom.com/images/linux/&amp;h=220&amp;w=170&amp;sz=29&amp;tbnid=-dEjG3JAHxi0kM:&amp;tbnh=102&amp;tbnw=78&amp;hl=en&amp;start=5&amp;prev=/images%3Fq%3Dlinux%2Blogo%26svnum%3D10%26hl%3Den%26lr%3D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xisp.hellug.gr/sun-logo.gif&amp;imgrefurl=http://xisp.hellug.gr/&amp;h=80&amp;w=104&amp;sz=3&amp;tbnid=Ht_EpwDpIVz4zM:&amp;tbnh=60&amp;tbnw=79&amp;hl=en&amp;start=2&amp;prev=/images%3Fq%3Dsunos%2Blogo%26svnum%3D10%26hl%3Den%26lr%3D%26rls%3DGGLJ,GGLJ:2006-10,GGLJ:en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beta2.savvy.net/uploads/logo_ibm-aix-server.gif&amp;imgrefurl=http://www.savvy.net/detail.asp%3Fcategory_id%3D5%26article_id%3D82&amp;h=67&amp;w=81&amp;sz=2&amp;tbnid=H0BRP9aFH3GEiM:&amp;tbnh=58&amp;tbnw=71&amp;hl=en&amp;start=9&amp;prev=/images%3Fq%3Dibm%2Baix%2Blogo%26svnum%3D10%26hl%3Den%26lr%3D%26rls%3DGGLJ,GGLJ:2006-10,GGLJ:en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resnet.ramapo.edu/images/macos9_logo.gif&amp;imgrefurl=http://resnet.ramapo.edu/config_mac.php&amp;h=181&amp;w=198&amp;sz=4&amp;tbnid=GWkzr4n6KP6IwM:&amp;tbnh=90&amp;tbnw=99&amp;hl=en&amp;start=5&amp;prev=/images%3Fq%3Dmacos%2Blogo%26svnum%3D10%26hl%3Den%26lr%3D%26rls%3DGGLJ,GGLJ:2006-10,GGLJ:en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images.google.com/imgres?imgurl=http://blog.tilos.hu/speedlight/2003/04/pdas.jpg&amp;imgrefurl=http://blog.tilos.hu/speedlight/archives/2003_04.html&amp;h=257&amp;w=400&amp;sz=19&amp;tbnid=5j3ifRdnCa4ZiM:&amp;tbnh=77&amp;tbnw=120&amp;hl=en&amp;start=11&amp;prev=/images%3Fq%3Dwindows%2Bce%2B%26svnum%3D10%26hl%3Den%26lr%3D%26rls%3DGGLJ,GGLJ:2006-10,GGLJ:en" TargetMode="External"/><Relationship Id="rId12" Type="http://schemas.openxmlformats.org/officeDocument/2006/relationships/image" Target="../media/image12.jpeg"/><Relationship Id="rId13" Type="http://schemas.openxmlformats.org/officeDocument/2006/relationships/hyperlink" Target="http://images.google.com/imgres?imgurl=http://www.windowsfordevices.com/files/microsoft/ms-logo.jpg&amp;imgrefurl=http://www.windowsfordevices.com/sponsors/SP7571057230.html&amp;h=150&amp;w=200&amp;sz=7&amp;tbnid=mUnN4yHKyJO-8M:&amp;tbnh=74&amp;tbnw=99&amp;hl=en&amp;start=1&amp;prev=/images%3Fq%3Dwindows%2Bce%2Blogo%26svnum%3D10%26hl%3Den%26lr%3D%26rls%3DGGLJ,GGLJ:2006-10,GGLJ:en" TargetMode="External"/><Relationship Id="rId14" Type="http://schemas.openxmlformats.org/officeDocument/2006/relationships/image" Target="../media/image13.jpeg"/><Relationship Id="rId15" Type="http://schemas.openxmlformats.org/officeDocument/2006/relationships/hyperlink" Target="http://images.google.com/imgres?imgurl=http://www.visualwebsolutions.net/images/server-01.png&amp;imgrefurl=http://www.visualwebsolutions.net/images/&amp;h=279&amp;w=200&amp;sz=74&amp;tbnid=FJGj23ZEMsjwxM:&amp;tbnh=109&amp;tbnw=78&amp;hl=en&amp;start=1&amp;prev=/images%3Fq%3Dserver%26svnum%3D10%26hl%3Den%26lr%3D%26rls%3DGGLJ,GGLJ:2006-10,GGLJ:en" TargetMode="External"/><Relationship Id="rId16" Type="http://schemas.openxmlformats.org/officeDocument/2006/relationships/image" Target="../media/image14.jpeg"/><Relationship Id="rId17" Type="http://schemas.openxmlformats.org/officeDocument/2006/relationships/hyperlink" Target="http://images.google.com/imgres?imgurl=http://www.cs.wisc.edu/~nejedlo/gif/cluster.jpg&amp;imgrefurl=http://www.cs.wisc.edu/condor/cluster/&amp;h=864&amp;w=1152&amp;sz=272&amp;tbnid=D1rf3_6W3drwyM:&amp;tbnh=112&amp;tbnw=150&amp;hl=en&amp;start=3&amp;prev=/images%3Fq%3Dcluster%26svnum%3D10%26hl%3Den%26lr%3D%26rls%3DGGLJ,GGLJ:2006-10,GGLJ:en" TargetMode="External"/><Relationship Id="rId18" Type="http://schemas.openxmlformats.org/officeDocument/2006/relationships/image" Target="../media/image15.jpeg"/><Relationship Id="rId19" Type="http://schemas.openxmlformats.org/officeDocument/2006/relationships/hyperlink" Target="http://images.google.com/imgres?imgurl=http://www.amigobc.com/logo_windows_net_server_2003.jpg&amp;imgrefurl=http://www.amigobc.com/clearance.htm&amp;h=320&amp;w=486&amp;sz=19&amp;tbnid=6G9ZokJ25FAU6M:&amp;tbnh=82&amp;tbnw=126&amp;hl=en&amp;start=3&amp;prev=/images%3Fq%3Dwindows%2Bserver%2Blogo%26svnum%3D10%26hl%3Den%26lr%3D%26sa%3DN" TargetMode="External"/><Relationship Id="rId20" Type="http://schemas.openxmlformats.org/officeDocument/2006/relationships/image" Target="../media/image16.jpeg"/><Relationship Id="rId21" Type="http://schemas.openxmlformats.org/officeDocument/2006/relationships/hyperlink" Target="http://images.google.com/imgres?imgurl=http://www.superwarehouse.com/images/products/apple_ibookg4v2.jpg&amp;imgrefurl=http://www.superwarehouse.com/Apple_iBook_G4_933MHz_Laptop/M9388LL_A/p/341876&amp;h=200&amp;w=220&amp;sz=16&amp;tbnid=c1uqLqvD1zGmhM:&amp;tbnh=92&amp;tbnw=102&amp;hl=en&amp;start=8&amp;prev=/images%3Fq%3Dmac%2Blaptop%26svnum%3D10%26hl%3Den%26lr%3D" TargetMode="External"/><Relationship Id="rId22" Type="http://schemas.openxmlformats.org/officeDocument/2006/relationships/image" Target="../media/image17.jpeg"/><Relationship Id="rId23" Type="http://schemas.openxmlformats.org/officeDocument/2006/relationships/hyperlink" Target="http://images.google.com/imgres?imgurl=http://www.connectedhomemedia.com/Articles/Images/toshiba_tabletpc.jpg&amp;imgrefurl=http://www.connectedhomemedia.com/Articles/Print.cfm%3FArticleID%3D45660%26Path%3DHomeOffice&amp;h=250&amp;w=250&amp;sz=16&amp;tbnid=jtGPo_ugOyvC-M:&amp;tbnh=106&amp;tbnw=106&amp;hl=en&amp;start=4&amp;prev=/images%3Fq%3Dtoshiba%2Bcomputer%26svnum%3D10%26hl%3Den%26lr%3D%26sa%3DG" TargetMode="External"/><Relationship Id="rId24" Type="http://schemas.openxmlformats.org/officeDocument/2006/relationships/image" Target="../media/image18.jpeg"/><Relationship Id="rId25" Type="http://schemas.openxmlformats.org/officeDocument/2006/relationships/hyperlink" Target="http://images.google.com/imgres?imgurl=http://www.wince.com.br/images/treo700w.jpg&amp;imgrefurl=http://www.wince.com.br/cgi-bin/equipamentos/03.idc%3Fregistro%3D694&amp;h=373&amp;w=256&amp;sz=23&amp;tbnid=QCtdRf6HlpV2fM:&amp;tbnh=118&amp;tbnw=80&amp;hl=en&amp;start=14&amp;prev=/images%3Fq%3Dwindows%2Bembedded%2Bphone%26svnum%3D10%26hl%3Den%26lr%3D" TargetMode="External"/><Relationship Id="rId26" Type="http://schemas.openxmlformats.org/officeDocument/2006/relationships/image" Target="../media/image19.jpeg"/><Relationship Id="rId27" Type="http://schemas.openxmlformats.org/officeDocument/2006/relationships/image" Target="../media/image20.jpeg"/><Relationship Id="rId28" Type="http://schemas.openxmlformats.org/officeDocument/2006/relationships/image" Target="../media/image21.jpeg"/><Relationship Id="rId29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9280" y="1344240"/>
            <a:ext cx="789120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ρχεία στην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γαστήριο 2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(Επανάληψη στο Σπίτι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ιδάσκω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ημήτρης Ζεϊναλιπού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FB15-95D9-4CFE-AC03-D8F6E940A88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νοιγμα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νάρτησ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pen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dio.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*fopen(char *filename, char *mode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παράμετρο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δεικνύει το όνομα του αρχείου που επιθυμούμε να ανοίξουμ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δεικνύει το είδος της πράξης (π.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, write, read-write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ain() { FILE *f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p = fopen("myfile.txt", "r");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638680" y="487692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5638680"/>
            <a:ext cx="21333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5867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νομα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4495680"/>
            <a:ext cx="332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Τύπος Ανοίγματ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(εδώ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38080" y="548604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458640" y="609588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ντότητα Διαχείρισης Αρχείου.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89C0-DE2E-4D03-A158-8DC08A6B005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νοιγμα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73160"/>
          <a:ext cx="8229600" cy="4884840"/>
        </p:xfrm>
        <a:graphic>
          <a:graphicData uri="http://schemas.openxmlformats.org/drawingml/2006/table">
            <a:tbl>
              <a:tblPr/>
              <a:tblGrid>
                <a:gridCol w="1371600"/>
                <a:gridCol w="685800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ημασί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όνο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επιστρέφετα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όνο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γραφ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 το αρχείο δεν υπάρχει δημιουργείται, αν υπάρχει τα περιεχόμενά του καταστρέφοντα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ary File: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Υποδηλώνουμε ότι πρόκειται να επεξεργαστούμε αρχείο με δυαδικά δεδομέν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σθήκ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δημιουργεί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γγραφή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επιστρέφετα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L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εγγραφή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 το αρχείο δεν υπάρχει δημιουργείται, αν υπάρχει τα περιεχόμενά του καταστρέφον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ροσθήκ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και 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νάγνωση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Αν το αρχείο δεν υπάρχει, δημιουργείτα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380880" y="11430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H παράμετρος mode υποδεικνύει τον τρόπο με τον οποίο θέλουμε να προσπελάσουμ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64E5A-E6A2-4BD1-BC69-3E39A7B0805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Κλείσιμο Αρχείων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676520"/>
            <a:ext cx="8534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υνάρτησ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close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dio.h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fclose(FILE *fp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αράμετρο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οδεικνύει την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Οντότητα Διαχείρισης Αρχείο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p = fopen("myfile.txt", "r")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20A04-C067-4BED-9992-8581CF98A36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/ Εγγραφή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7652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Γράψετε ένα απλό πρόγραμμα που προσθέτει την λέξ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Hello”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 ένα αρχεί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ILE *fp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p = fopen("myfile.txt", "a")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άνοιγμα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printf(fp, "Hello"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κτύπωση σε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κλείσιμο αρχε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56272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ς δούμε τώρα τις εντολές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printf, fclo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σε περισσότερο βάθ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029200" y="342864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2819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1B7BF-F9D2-4BA9-B767-1170B1E3F94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/ Εγγραφή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6765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// Try to open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Write to the f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Hello 5 6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fprintf(fp, "Hello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%d %d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5,6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495680" y="2362320"/>
            <a:ext cx="8384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5238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ίδιο πρόγραμμα με συνθήκη έλεγχου που ελέγχει αν άνοιξε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4038480"/>
            <a:ext cx="3581280" cy="228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.χ. Αν γέμισε ο δίσκος τότε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pe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α αποτύχει, και ο χρήστης του προγράμματος μπορεί να ειδοποιηθεί με μήνυμα λάθου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05920" y="2286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15BC-2CD4-4761-BCC8-47971C0F9A3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676520"/>
            <a:ext cx="8382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Διάβασε ένα αριθμό 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486400" y="1904760"/>
            <a:ext cx="68580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4952880"/>
            <a:ext cx="35816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ενός ακεραίο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1AB0-1375-4D40-8DED-3D0BAD8B5ED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Εκτύπωση / Κλείσιμο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Διάβασε ένα αριθμό από το αρχεί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Εκτύπωσε τον αριθμ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4952880"/>
            <a:ext cx="327672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ενός ακεραίου από αρχείο και εκτύπωση του  στην οθό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1DDA-2394-411E-AB9F-8ADDD9A356F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/ Ανάγν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Ακέραιου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 Εκτύπωση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x 2 / </a:t>
            </a: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Κλείσιμ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")) == NULL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canf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, 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&amp;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%d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, a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733920"/>
            <a:ext cx="327636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άγνωση δυο ακέραιων από αρχείο και εκτύπωση τους στην οθό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DA169-3DCB-4472-BF4B-FC5ACDB6862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Πρόγραμμα Ανάγνωσης Πολλών Αριθμώ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4479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Κάποιος σας δίδει ένα μεγάλο αρχείο αριθμών. Σας ζητά να βρείτε τον μέγιστο αριθμό στο αρχεί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3352680"/>
            <a:ext cx="6248520" cy="302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 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5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file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18D44-E9C1-4729-B8E8-680EECB98E7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Πρόγραμμα Ανάγνωσης Πολλών Αριθμώ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44792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nt a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 max=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f ((fp = fopen("myfile.txt",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")) == NULL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printf("Error opening file\n"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while (fscanf(fp, "%d", &amp;a) != EOF)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//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printf("%d\n", 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f (a&gt;max) { max = a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intf(“max:%d”, max);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Print the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2BCF-5FFA-4049-B855-D339422DEC3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ην Αποθήκευση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Storage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324840" cy="4206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1752480" cy="55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14479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ια να αποθηκεύσουμε δεδομένα από ένα πρόγραμμα, πρέπει να χρησιμοποιήσουμε την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Δευτερεύουσα Μνήμ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0" y="5943600"/>
            <a:ext cx="99072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91120" y="5638680"/>
            <a:ext cx="6094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648320" y="40381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562360" y="2209680"/>
            <a:ext cx="144756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DB33-DC09-4D39-8F61-DF4AFE027B6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Άσκησ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447920"/>
            <a:ext cx="8382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main() { FILE *f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nt i; int max=-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srand(time(NULL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if ((fp = fopen("myfile.txt", "w")) == NULL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printf("Error opening file\n"); exit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or (i=0;i&lt;10;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fprintf(fp, "%d\n", rand() % 1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// Close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fclose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152388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Τι ακριβώς κάνει το πιο κάτω πρόγραμμα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4C6F-CA80-4C41-8EAE-8CD6D49A8C14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ην Αποθήκευση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Storag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40320" y="1523880"/>
            <a:ext cx="3551400" cy="2343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1295280"/>
            <a:ext cx="5105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πιο συνηθισμένη μορφή δευτερεύουσας μνήμη η οποία αξιοποιείτε από ένα πρόγραμμα είναι ο Μαγνητικός Δίσκο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Μαγνητικός Δίσκο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οτελείτε από ένα ή περισσότερους δίσκους με μαγνητική επικάλυψ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δεδομένα αποθηκεύονται σε τομείς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sector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δίσκοι διαθέτουν την δυνατότητα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ειριακή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λλά και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άμεση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πρόσβασης στα δεδομέν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42000" y="4068720"/>
            <a:ext cx="2716200" cy="1874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144792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67FB-F880-43CB-AEEC-101F155955A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Επανάληψη στα Λειτουργικά Συστήματα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(Operating System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http://simple.wikipedia.org/wiki/Microsoft_Window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5410080"/>
            <a:ext cx="1143000" cy="779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3733920"/>
            <a:ext cx="87300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81080" y="5334120"/>
            <a:ext cx="1024200" cy="77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1447920"/>
            <a:ext cx="8001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ιος Διαχειρίζεται τους Πόρους (Μνήμη, Δίσκο, Επεξεργαστή, κτλ) σε ένα Υπολογιστικό Σύστημα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ΤΟ ΛΕΙΤΟΥΡΓΙΚΟ ΣΥΣΤΗ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44792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2120" y="5257800"/>
            <a:ext cx="105732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5257800"/>
            <a:ext cx="990360" cy="90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162920" y="3352680"/>
            <a:ext cx="1600200" cy="1027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467480" y="5410080"/>
            <a:ext cx="1067040" cy="797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10280" y="3276720"/>
            <a:ext cx="198144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990720" y="3809880"/>
            <a:ext cx="742680" cy="1038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905120" y="3809880"/>
            <a:ext cx="1428480" cy="1067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3276720"/>
            <a:ext cx="312408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200400" y="5334120"/>
            <a:ext cx="1200240" cy="780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9880" y="3276720"/>
            <a:ext cx="312444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867280" y="3429000"/>
            <a:ext cx="971640" cy="876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5791320" y="4343400"/>
            <a:ext cx="1009440" cy="704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620120" y="4419720"/>
            <a:ext cx="568080" cy="838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7"/>
          <a:stretch/>
        </p:blipFill>
        <p:spPr>
          <a:xfrm>
            <a:off x="4419720" y="3581280"/>
            <a:ext cx="1209600" cy="838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8"/>
          <a:stretch/>
        </p:blipFill>
        <p:spPr>
          <a:xfrm>
            <a:off x="4648320" y="4648320"/>
            <a:ext cx="742680" cy="74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43124-8B39-47B0-AC96-0F70EA1305F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400" spc="-1" strike="noStrike">
                <a:solidFill>
                  <a:srgbClr val="000000"/>
                </a:solidFill>
                <a:latin typeface="Arial"/>
              </a:rPr>
              <a:t>Λειτουργικά Συστήματα και Συστήματα Διαχείρισης Αρχείω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άθε γλώσσα προγραμματισμού έχει κάποια βιβλιοθήκη η οποία προσφέρει λειτουργίες πρόσβασης σε αρχεία αποθηκευμένα σε μονάδες Δευτερεύουσας Μνήμη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η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, o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λειτουργίες αυτές προσφέρονται από την βιβλιοθήκ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stdio.h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Η Βιβλιοθήκη επικοινωνεί με το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υποσύστημα διαχείρισης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</a:rPr>
              <a:t>αρχείων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le System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λειτουργικού συστήματ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 οποίο στην συνέχεια διεκπεραιώνει τις λειτουργίες που ζητά ο προγραμματιστή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yste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ίναι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32, NT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δούμε τι περιέχουν εσωτερικά τα αρχεία (δηλαδή πως αποθηκεύουν τις πληροφορίες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824D-DCE9-4E55-8F11-E612EDB60E8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3880" y="1905120"/>
            <a:ext cx="601992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Αρχεία </a:t>
            </a: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Κειμένο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Θυμηθείτε ότι το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αρχείο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ίναι μία ακολουθί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011000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11000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011100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ii:99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scii:97   ascii: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χαρακτήρες αυτοί είναι αποθηκευμένοι σειριακά στο αρχείο και διαχωρίζονται με διάφορους ειδικούς χαρακτήρ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5486400"/>
            <a:ext cx="1676520" cy="914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5410080"/>
            <a:ext cx="281952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\nTest\thell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46483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είο όπως το βλέπει ο χρήστ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46483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είο στην Πραγματικότη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172200" y="5791320"/>
            <a:ext cx="12952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6095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έλος αρχείο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: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719C8-4237-455E-96AA-0071D3FDC68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Αρχεία </a:t>
            </a: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Κειμένο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2371680"/>
            <a:ext cx="6496200" cy="4486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948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 Πίνακα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 –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ρκετοί χαρακτήρες είναι κρυμμένοι – δηλαδή δεν φαίνονται στην οθόνη και στα αρχε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09680"/>
            <a:ext cx="3124080" cy="4648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5229-B32E-4149-B63C-64961FF91B2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 u="sng">
                <a:solidFill>
                  <a:srgbClr val="000000"/>
                </a:solidFill>
                <a:uFillTx/>
                <a:latin typeface="Arial"/>
              </a:rPr>
              <a:t>Δυαδικά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 Αρχεία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3581280"/>
          <a:ext cx="7010280" cy="26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81280"/>
                    <a:ext cx="7010280" cy="26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04920" y="1447920"/>
            <a:ext cx="8610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λ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όλα τα αρχεία περιέχουν Χαρακτήρε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X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ς δούμε πως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ίναι κωδικοποιημένο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 αρχείο εικόνα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Graphics Interchange 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, συγκεκριμένα τη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νωστή εικόνα το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der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στ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696080" y="2819520"/>
            <a:ext cx="1295640" cy="1193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76920" y="2971800"/>
            <a:ext cx="28954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Αρχ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952880"/>
            <a:ext cx="7696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Το σχήμα δείχνει ότι οι εικόνες (όπως και ΌΛΑ τα αρχεία) είναι ουσιαστικά μια σειρά από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ytes</a:t>
            </a:r>
            <a:r>
              <a:rPr b="0" lang="el-GR" sz="2400" spc="-1" strike="noStrike">
                <a:solidFill>
                  <a:srgbClr val="ff3300"/>
                </a:solidFill>
                <a:latin typeface="Arial"/>
              </a:rPr>
              <a:t> (στο σχήμα κωδικοποιημένα στο δεκαεξαδικό σύστημα για να κερδίσουμε χώρ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60958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00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DE70-DE88-410A-9EF0-EADB5A44C59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Εισαγωγή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800" spc="-1" strike="noStrike">
                <a:solidFill>
                  <a:srgbClr val="000000"/>
                </a:solidFill>
                <a:latin typeface="Arial"/>
              </a:rPr>
              <a:t>στα Αρχεία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ώρα θα επικεντρωθούμε στις λειτουργίες εγγραφής και ανάγνωσης σε αρχεία της βιβλιοθήκη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stdio.h&gt;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Η επεξεργασία  αρχείων γίνεται κατά τον ακόλουθο τρόπο: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)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υσχετίζουμε μία οντότητ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η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το αρχείο (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άνοιγμ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υ αρχείο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) Πραγματοποιούμε τις λειτουργίε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νάγνωσης και εγγραφής δεδομέν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Κλείνουμ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ο αρχεί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CBE4-FB21-4007-AC07-913D23724D3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23:11:32Z</dcterms:created>
  <dc:creator>Demetris Zeinalipour</dc:creator>
  <dc:description/>
  <dc:language>en-US</dc:language>
  <cp:lastModifiedBy>DZ</cp:lastModifiedBy>
  <dcterms:modified xsi:type="dcterms:W3CDTF">2006-09-15T11:16:17Z</dcterms:modified>
  <cp:revision>133</cp:revision>
  <dc:subject/>
  <dc:title>EPL032 - File I/O</dc:title>
</cp:coreProperties>
</file>